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88B-EC50-4FAC-8637-63A41720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BD7-D5ED-4568-A44A-0001CA3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D46-64E4-4AE6-99F3-085CB18F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814-C774-4F0C-AD4F-5A847150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157-AEF7-4CD6-987F-D2B8EEE5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FFC-2714-4EB5-87A7-121C240A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B43-585A-47E5-8605-191CFFA7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509-2875-47FF-B6B5-DCD5F03E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628-485A-43A6-BCB7-2722FDDE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4B4-BB8D-4E4F-B11D-35A4EC6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4EF-6890-4A13-BA3A-6BB4193D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A50-CF6E-40CD-82A4-F667CB0D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EBF5-9695-4D14-B732-29A6F21BB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Problems: H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Ter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otyp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the letter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:  in a basic monohybrid cro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C : Cc : cc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draw me a pictur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it look li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Ter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terozygote; typically does NOT show the tr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ue-breed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mozygous; does NOT refer to dominance or recessiveness. The rest of the problem will tell you or have cl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ohybrid Cro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or rece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inant trait shows through in heterozygous cro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1:19:56Z</dcterms:created>
  <dc:creator>Joanne Lilliendahl</dc:creator>
  <dc:description/>
  <dc:language>en-US</dc:language>
  <cp:lastModifiedBy>Preferred Customer</cp:lastModifiedBy>
  <dcterms:modified xsi:type="dcterms:W3CDTF">2011-04-25T09:55:40Z</dcterms:modified>
  <cp:revision>3</cp:revision>
  <dc:subject/>
  <dc:title>Genetic Problems: Hints</dc:title>
</cp:coreProperties>
</file>